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AA8-A07D-4C33-AB73-5C8B47BB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9C4-D23B-4322-913B-4773DE17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AAC-8C1D-4698-925A-8069B9B4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39C-B218-4A94-8025-AABAF748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984-DEE3-4141-BF42-99D37667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E07-2D20-4DBA-A0A5-2F7A64B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1BA-17CF-4F8B-BE46-E2752B5E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63C-BABC-41C3-8436-E693CA04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B1B-87B7-4B9A-9E93-02AB9393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2D7-9150-4F03-AB83-AF5353B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3F0-DA21-4C6C-AFCE-2AE4DAF4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AF9-96A0-430B-8894-A34F5B4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Wo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B158-0EBA-421E-8FF6-80389C6EF1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815-72CD-4008-9DCB-DD63AC3F95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ěkteré okruhy kursu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Word k něčemu užitečný a pokud ano, tak k čem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jí se s ním dělat nějaké zajímavé vě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edevším: Jak se s Wordem pracu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B53-0691-4523-9C42-698D4195B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 umožňu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ářet textové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át brožury, letáky, zprávy, vědecké práce, nadepisovat obálky, vytvářet vizitky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členit do dokumentů obrázky, grafy, tabulky a dokonce i zvuky a film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znat se v obrovských dokumen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lupracovat s mnoha dalšími aplikacemi různých výrob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ářet internetov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FC4-42EF-4AD3-BF77-78A0749E35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 si to vyzkoušejm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ADE-29EF-431B-A9EB-14D8D1D255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1:11:27Z</dcterms:created>
  <dc:creator>Poč.učebny</dc:creator>
  <dc:description/>
  <dc:language>en-US</dc:language>
  <cp:lastModifiedBy>Jiří Beran</cp:lastModifiedBy>
  <dcterms:modified xsi:type="dcterms:W3CDTF">2006-01-23T22:21:13Z</dcterms:modified>
  <cp:revision>5</cp:revision>
  <dc:subject/>
  <dc:title>Microsoft Access</dc:title>
</cp:coreProperties>
</file>